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3AD-2231-4CE0-88B7-117324CA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B71-048F-446A-85D2-D45055DB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670-AAF2-48B8-B733-17DF40E3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AD7-C9FC-444E-9037-E3561605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7D95-E763-4BE3-B4B1-13D62369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A57E-EF3A-4256-8FEC-E3B4CB22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0EF2-89FF-4B2F-B29F-2D462395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9598-9E5B-4040-A0E9-E844B5D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1A68-2A17-49F0-9CFD-DA0888EE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CD66-9D79-496D-809F-E04341FA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448-9BED-42AC-B1FD-ED37BB9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9E9-5A47-4214-AF6A-A21A261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ED2F-0F68-4ED4-BB79-136A571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F52B-1BF0-48CA-810D-4731B4A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5DD0-740F-4D55-AABA-6EBCFBE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4753-F08B-4893-B2B1-7120069F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C46D-CA09-4E96-B3A8-3D86D89D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560-2542-4DC0-BB40-C89F3D0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566-190C-4589-A5F9-0C22586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98F-ED05-42A5-8BAE-0050010A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03F-D437-43E5-9212-CBAFEB98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6E2-CF0E-4176-84D2-759AF61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795-D4F0-43B2-AA1A-40AD59CE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A8E-5C8E-489B-84C2-EC12DCB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F9AA-320E-4A14-8EED-89F9EEBE3D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0CDD-7CCD-4B89-834B-ACF7072B46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accad.osu.edu/~smay/Human/arm3.m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tissue made of muscles cells (AKA muscle fib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ized for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eletal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diac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Muscular System: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keletal Muscle Tiss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74448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86280" y="-12060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ge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 Fiber: Anatomy &amp; Sarcome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560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20360" y="12193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1447920"/>
            <a:ext cx="609840" cy="129528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56520" y="26668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omys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080" y="2437920"/>
            <a:ext cx="914400" cy="3049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1680" y="5562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zone of overl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53000" y="4495680"/>
            <a:ext cx="19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/w I &amp; A-b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es the muscle get the message to contract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ce where neuron (nerve cell) and muscle fiber m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 small space between the neuron and the muscle fiber (SYNAPSE or synaptic cle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nd of the neuron is known as a kno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uron is PRE-synaptic (before synapse) and the muscle fiber is POST-synaptic (after synap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etylcho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Ch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transmitter that binds to motor end p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s action potential in muscle fi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on Potent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al impulse that spreads message throughout muscle fi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673200"/>
            <a:ext cx="7620120" cy="6184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ge 8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ge 7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739800"/>
            <a:ext cx="8839080" cy="611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83400" y="-93600"/>
            <a:ext cx="17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ge 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s at neuromuscular jun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otential (electrical signal) arrives at pre-synaptic kn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otential opens calcium channels in pre-synaptic knob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cium rushes into pre-synaptic kno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ium triggers release of acetylcholine (Ach) from vesicles into syn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h in synapse binds to receptors in muscle fiber membrane; receptors are attached to sodium chann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eps at neuromuscular junction (cont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Once enough Ach is attached to receptors, sodium channels are open and sodium enters the muscle fi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Sodium entering the muscle fiber passes the action potential (message) to the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Ach-ase is an enzyme that breaks down Ach in the synapse so that the impulse is st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8635" t="5271" r="5067" b="1641"/>
          <a:stretch/>
        </p:blipFill>
        <p:spPr>
          <a:xfrm>
            <a:off x="0" y="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0400" y="2271600"/>
            <a:ext cx="6094440" cy="458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43200" y="914400"/>
            <a:ext cx="380880" cy="1981080"/>
          </a:xfrm>
          <a:custGeom>
            <a:avLst/>
            <a:gdLst>
              <a:gd name="textAreaLeft" fmla="*/ 0 w 380880"/>
              <a:gd name="textAreaRight" fmla="*/ 13752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1905120"/>
            <a:ext cx="381024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51040" y="6333480"/>
            <a:ext cx="851400" cy="5205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7240" y="4195080"/>
            <a:ext cx="189360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=Ach-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43880" y="4728240"/>
            <a:ext cx="2861280" cy="520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End 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77120" y="365724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952880" y="3962520"/>
            <a:ext cx="15242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34290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505320" y="5638320"/>
            <a:ext cx="6094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8879040" y="228600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chanism of Muscle Contra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liding Filament Theory (SF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 filaments slide on thick filament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er of sarcom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rcomeres shorten together= contr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 &amp; I-bands gets small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ne of overlap gets larg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-lines move closer toge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-band remains const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k. Muscle Functions &amp; Characterist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eletal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ure &amp; body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/ shield soft tissues (i.e. orga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ard entrances &amp; ex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 body 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aracteristics of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blood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nerve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F Theory: Sarcomere Termin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oss-bridg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osin h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ve si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n sites for myosin head attach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sed when muscle con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opomyos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ers actin active sites when muscle at 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opon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lity to bind with actin, tropomyosin, and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lls tropomyosin off active sites when muscle wants to contract &amp;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liding Filament Theory: Steps (1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on potential (signal) reaches muscle fi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ion pot. reaches cisternae via T-tubul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Calcium is released from the sarcoplasmic reticulum into the sarcopla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 Calcium binds to troponin, which in turn makes tropomyosin move which opens the attachment sites in act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liding Filament Theory: Steps (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Myosin heads bind to actin attachment sites and form cross bri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energy stored in myosin heads is used to move myosin heads causing actin to slide past myo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ATP binds to myosin 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. ATP is broken down and myosin heads release from actin attachment 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. heads of myosin return to original position and energy is stored in myosin he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liding Filament Theory: Steps (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 Calcium is actively transported back into the sarcoplasmic reticulum (energy required) -[Ca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] concentration returns to normal 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.Troponin-tropomyosin complex covers active si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1. Muscle contraction over and muscle returns to normal, resting lengt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3993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00960" y="28954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ge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332840" y="300348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ge 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-228600"/>
            <a:ext cx="7010280" cy="6792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84680" y="2438280"/>
            <a:ext cx="20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ge 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twit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ction of a muscle in response to a stim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6553440" cy="498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otor Unit, Muscle Control, &amp; Tens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wit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ingle stimulus-contraction-relax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Un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all muscle fibers/1 motor neur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varies with pre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ye= 2-3 m. fibers/ 1 neuron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re fine prec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=2,000 m. fibers/ 1 neur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ess precision, gross mov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aded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LL OR NONE LAW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the action potential reaches a muscle fiber, the fiber always contracts with the same int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how can we control strength of contrac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on number of motor units recru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 of contraction increases with number of moto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keletal Muscle Organiz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 Fasciculu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 Fiber (=cell)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yofibri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teins: Actin &amp; Myos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ive tissue surrounding muscle organiz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pimys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urrounds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s w/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nd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eriosteum of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imys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urrounds muscle fascic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ins blood vessels &amp; ner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domysiu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urrounds muscle fi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ypes of Contractions &amp; Muscle Ton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sotonic con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tension builds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v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entr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uscle shortens with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centr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uscle lengthens with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sometric contr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tension buil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 length doesn’t chan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 posture, no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1080" y="685800"/>
            <a:ext cx="1942920" cy="14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22470" t="0" r="14094" b="0"/>
          <a:stretch/>
        </p:blipFill>
        <p:spPr>
          <a:xfrm>
            <a:off x="6858000" y="2819520"/>
            <a:ext cx="1309680" cy="4038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0" r="5527" b="0"/>
          <a:stretch/>
        </p:blipFill>
        <p:spPr>
          <a:xfrm>
            <a:off x="6095880" y="0"/>
            <a:ext cx="3048120" cy="297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5562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cle Ton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ing tension in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ent ability of the muscle to respond to a stret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bili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damage from sudden change/ overstretch of joint pos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normal t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 tone= flac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ead to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Atr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no nerve stim or exercise (SCI/ ca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Tone: Spast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P Supply for Muscle Activ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reserves in muscl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36 ATP (muscle at r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e Phosphate (CP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zed at rest and stored in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ly depleted (8-10 se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PK is enzyme that speeds up CP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maged muscl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 contractions occur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used CPK leaks into blood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CPK blood levels for muscle damage (M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ycogen (Glucose s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36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robic respiratio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2 ATP &amp; 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xygen is used by your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ATP and 2 molecules of lactic acid are made per molecule of 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s less than 3 min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et less ATP but you get it f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 is available and used by your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8 ATP made per molecule of 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use fatty acids and amino acids (in addition to gluco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get more ATP but you get it s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20156" r="0" b="0"/>
          <a:stretch/>
        </p:blipFill>
        <p:spPr>
          <a:xfrm>
            <a:off x="0" y="213372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TP Supplies for Muscle A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72306"/>
          <a:stretch/>
        </p:blipFill>
        <p:spPr>
          <a:xfrm>
            <a:off x="175248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-30600" y="2138040"/>
            <a:ext cx="249840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t &amp; St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&amp; 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34400" r="0" b="35516"/>
          <a:stretch/>
        </p:blipFill>
        <p:spPr>
          <a:xfrm>
            <a:off x="1447920" y="-73080"/>
            <a:ext cx="7696080" cy="693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-70200" y="2899800"/>
            <a:ext cx="262512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derate U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 &amp; 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71174" r="0" b="0"/>
          <a:stretch/>
        </p:blipFill>
        <p:spPr>
          <a:xfrm>
            <a:off x="1905120" y="27000"/>
            <a:ext cx="7238880" cy="6831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-53640" y="2747520"/>
            <a:ext cx="3034800" cy="13737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ak &amp; U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robic Res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0" y="1295280"/>
          <a:ext cx="9144000" cy="5270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osphocreat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aerob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erob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lycog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lt;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ath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ltra-marath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cer g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ercent contribution to ATP gene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Fatigue &amp; Activ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cle fatig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 longer contract despite neuron st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: no energy reser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ild up 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ctivity &amp; Resultant Fati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ath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 yd. da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581280"/>
            <a:ext cx="808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lete lipid, carbo, &amp; a.a. re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33440" y="4648320"/>
            <a:ext cx="78706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tic acid buildup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ow pH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enzyme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anaerobic glycolysis &amp; muscle fc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93560" y="304812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aerobic respi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57320" y="4114800"/>
            <a:ext cx="35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erobic glyc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keletal Muscle Organization Diagr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1520" y="533520"/>
            <a:ext cx="5908680" cy="632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covery Perio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3 Goa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move lactic ac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recycling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muscle: Lactic aci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liver: lactic aci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lucos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xygen deb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e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r: Cori Cycle (Lactic Aci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lucose needs AT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s: Aerobic Respiration (replenish AT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ore blood and tissue 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eathe deeply after exerc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ease excess muscle hea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e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don’t rid heat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get rigor (severe contrac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tic Acid Recycling &amp; 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Deb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521000"/>
            <a:ext cx="9144000" cy="53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rmones &amp; Muscle Metabo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rowth Hormone &amp; Testoster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 protein synthesis &amp; muscle enlar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yroid Horm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heat produ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pinephrine (adrenaline) &amp; adrenal hormo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 muscle function (flight respon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Perform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performance determined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max amount of tension by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ndur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ow long individual can perfor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Determining Facto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muscle fibers: fast, slow, intermedi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conditioning/ training: anaerobic/ 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 Fiber Typ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Twitch= Whit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aerobic, fast fatig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Twitch= Red (myoglobin)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erobic, slow fatig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mediate= structure like fast, fcn like s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4267080"/>
            <a:ext cx="1600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581280"/>
            <a:ext cx="16002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fiber 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OW TWI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ct slow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er in dia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blood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more myoglob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fatigue resis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erobic resp is primary source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or long term, endurance con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TWIT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ct rapid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r in dia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blood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myoglob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s of glyc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erobic resp is primary source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or short time con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6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8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2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4" dur="2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5" dur="20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d &amp; White Muscle Fib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5835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2590920" y="609480"/>
            <a:ext cx="12189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09480"/>
            <a:ext cx="167652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609480"/>
            <a:ext cx="304920" cy="502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609480"/>
            <a:ext cx="3962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09400" y="2057400"/>
            <a:ext cx="24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capill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amp; mitocho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istribution Muscle Fib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hicke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muscles= fast fibers= breast b/c used for flight from predator (short, powerful move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 muscles= slow fibers= dark leg meat b/c walk a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um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 &amp; eye: more fast fibers, few slow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 &amp; calf muscles: many slow fibers b/c continuously us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% of fast &amp; slow fibers genetically determ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mediate fibers change with physical cond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hysical Conditioning: Anaerobi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erobic 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formed b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ast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atigue Resista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1 minute with all reser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rai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requent, brief, intense worko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sults of train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ncrease glycolytic enzymes, glycogen reserves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ypertroph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50 yd. dash, weight lifting, pole va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’s testosterone results in bigger musc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roid u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hysical Conditioning: Aerobi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Respiration: mitochondria suppor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formed b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low  &amp; intermediat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tigue resist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deplete nutr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a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ustained low levels of muscle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ults of tra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 muscles develop characteristics of intermed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circulation for continuous nutrients and oxygen sup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number of mitochond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jogging, distance swim, no peak tension requ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391520" y="28195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590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effects of exerci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number of mitochond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number of nucl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size of muscle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vascularity (better blood supp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capability to get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7391520" cy="685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-87840" y="5297760"/>
            <a:ext cx="2666520" cy="1556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 End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ing &amp; Muscular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ly: decr size &amp; power of muscle t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diameter becomes smal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reser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anaerobic &amp; aerobic perform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smaller &amp; less e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lerance for exercise decr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rapid fatigue &amp; decrease thermo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 injury recovery decr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r exercise helps bones, quality of life, weig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nical Applic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igor Mort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death, mm run out of nutrient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prived of ATP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’t pump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r detach myosin head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ock in contracted position until lysosomal enzymes breakdown filaments 15-25 hr l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yperkalem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 paralysi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rdiac muscle most sensitive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rdiac arr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tan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releases toxin that affects motor neurons causing sustained, powerful cont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e tetanus: 40-60% mortality 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unization pr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inical Applic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ram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xtended, painful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in [ion] (sweating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hydration) or pH (lactic acid) often resulting from muscle fatigue, drugs, nerve irritation, or sarcolemma da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otulis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prevents release of ACh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atal par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yasthenia Grav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function in body’s immune system causes decrease in # ACh receptor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ular weakness mostly chest &amp; 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l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o virus kills motor neuron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ralyze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trophy (iron lung if respiratory muscles affecte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gross anato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accomplished when muscle contr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stationary end of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er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 of muscle attached to bone undergoing greatest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cle gross anato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on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that accomplishes a certain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tagon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 acting in opposition (against) the agon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erg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cles that work together to accomplish one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me mover: mainly responsible for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bilizers: provide stability necessary for prime m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0120" y="198108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ge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24160" y="206532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 Fiber (cell) Anato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ltinucle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Wh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tei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rcolem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ell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rcoplas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arcoplasmic Reticulum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ransverse tubu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(t-tub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be carrying nerve signals b/w muscle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isterna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ntain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muscle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yofibri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unit that short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sed of protein fibers=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yofila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in fila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yos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ick filament with h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myofibrils: glycogen stores &amp; mitochond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876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286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ofila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3593" r="2999" b="3169"/>
          <a:stretch/>
        </p:blipFill>
        <p:spPr>
          <a:xfrm>
            <a:off x="0" y="1066680"/>
            <a:ext cx="7543800" cy="5300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886" t="8823" r="4507" b="30777"/>
          <a:stretch/>
        </p:blipFill>
        <p:spPr>
          <a:xfrm>
            <a:off x="4343400" y="457200"/>
            <a:ext cx="4800600" cy="1844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43920" y="106668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n: g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sin: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8200" y="6035760"/>
            <a:ext cx="23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-lin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n att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14920" y="603576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-l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sin att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2760" y="28954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ba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67960" y="3581280"/>
            <a:ext cx="20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-ba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osi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07000" y="2743200"/>
            <a:ext cx="36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ba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length of myos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360" y="64008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one of Overl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Sarcomer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: Smallest Contractile Uni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35812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19720" y="30481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80988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324480" y="5715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809880" y="56386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33720" y="54864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20:58:26Z</dcterms:created>
  <dc:creator>Melissa Hecht</dc:creator>
  <dc:description/>
  <dc:language>en-US</dc:language>
  <cp:lastModifiedBy>jayoig</cp:lastModifiedBy>
  <dcterms:modified xsi:type="dcterms:W3CDTF">2008-12-15T15:24:04Z</dcterms:modified>
  <cp:revision>79</cp:revision>
  <dc:subject/>
  <dc:title>The Muscular System: Skeletal Muscle Tissue</dc:title>
</cp:coreProperties>
</file>